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FA5-5B8A-4A25-A100-9B8D3E1B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295-6E53-42D3-9C4F-AEF2276C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D805E-145A-44C1-9898-005FB602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E61C9-F7BD-44F6-BF51-16392797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08105-3D30-42D9-86DB-6AAA90A8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D15A1-4180-498A-973C-B13737AF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41CA1-C178-48D0-80ED-D985F0E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0B72E-FB19-40B8-BF28-73228D74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8406C-4F26-45C4-A32E-284CCC54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283A4-BB2B-4458-9416-A4960ED1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7EF86-39EB-4155-B7C0-CE1D6560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318C0-33F4-4E55-85F7-A5AACC1B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9D9-2C69-42C2-9EFD-F67BFA6C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382EE-921A-4922-B095-81F9D588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02A3C-1B0E-4C44-B415-38088AF9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40C94-63F1-4D48-87F8-ABBBBB6C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6AB8E-78F9-4772-BC8F-02DFC2CA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CEBEA-4240-4974-8258-4B71B066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6B6E0-92CC-4AFD-A80D-168D92A4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99BCB-5609-4792-9632-D290886A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6BCFE-D13A-4423-9536-396A0478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2A291-ECB1-497F-A68E-98CEBD84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F2F78-0617-451D-8B87-5A03CB30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85B-51D2-4795-A6A4-B028ADDF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E8AA3-8F8D-49EC-B227-22EADC70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9058-0472-42A2-9C4B-8CA6821A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DC77-308D-4522-84BD-685E4B6E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68E4-89BC-40F0-8790-BC244FB2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6F37-4675-409C-B3CA-0CBF55E3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57B1-B7ED-47AE-AD69-3D565447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BA00-F1AA-40E9-B245-F4F6286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89E7-9B3C-4FFE-9440-0927E7AE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6CC-37A1-4227-A995-5B7ABE73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9535-D03B-459B-AA4A-8ACC5C86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6C51-CCA8-4587-8247-E26AD24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286A-F30D-405C-9B7B-4749E71A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83E1-F76D-447A-971A-E4C80BEB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EEE8-7792-46A5-A290-B966F0B0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2325-CDA4-4FC1-AB5C-8ED0B5A7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AECC-DBC8-49F3-B3BF-FFB8F7A3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5EC8-7C2A-497F-80BF-89D5A27C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F84B-F318-4DBA-BD18-FBEA0160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4FAA3-7831-4C97-B014-93A1A783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199-ABD9-4C59-A70C-4D64A82A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A833-9D14-4EA8-AB9A-C4DA55C9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3BF0-5A91-4304-81AF-08B1377A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DDB5-0C53-4E58-A94E-B453033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7E98-C84F-4611-A6A6-05CF2784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BD9A2-1A9F-41BF-8347-7299FA9C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7611-057E-4A7A-B0A4-4E27F838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34F5-D865-4B04-A35E-DA2411F2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A7D3A-F720-499B-9EF0-CD7C9D6E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7F036-5286-4C3B-884F-0A393EE9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6A613-20BB-462B-B38A-B62B5B59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628-472E-4143-B07D-295304A5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9007E-F388-499E-B269-B840C317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B387-E5AD-44D2-8107-2CF655CA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D0D7-B4F1-4EF1-90D5-7E642521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430A9-AECB-49C7-9E3D-BC959A79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37E48-01CF-4F21-AA73-6E9C9B93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088B-657D-4061-8039-A20B81E6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84070-9EC0-4E7B-A41B-D8AB269A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8A98A-AD91-4457-8B2F-8253A505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FDF59-8441-43BB-82E2-6D9E9E90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B61B7-0993-418D-B3D6-CC0932E1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D08-6D4C-4454-B8B3-B84D3D72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190B-A492-47A7-932F-D22E3F0B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E459F-001B-4D0E-B133-A5CBED3E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26BDF-298B-49EC-9D07-593C437C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511EA-13E4-4385-B250-6CAEFE7D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36F59-1602-4B91-B950-C5C10F68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7ACD9-087C-460E-90DD-F026FFBF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30BD4-4199-43B4-9417-0C18C8C5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B587-7999-423B-84EB-0985C23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F5795-EB7E-421E-A2AA-14712D6C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D3689-1AD0-4A3E-8FE4-34AF8C80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2F8-CA63-4EE0-9726-EB55ABC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8B709-BBAB-4BCE-B4B6-6F10F673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766FF-C881-40FD-9734-77AEA944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3B157-CCDF-4381-A43C-D3257933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912C4-9E88-4E4B-9BC0-E6E8EA10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67DDC-B294-4FFC-BC00-17F5293C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74192-27E4-46A9-805D-A0A33BEA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DCCF1-ADDA-465A-8796-0F235EDB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8E5FB-E96E-42FC-9D04-812C91BE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A27F9-1016-4587-B19C-858D3D63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E39D8-640B-465B-B0F2-90DDC02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11F-124C-4D9B-BB5D-D6825586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23A82-4983-4BDA-BA6E-ABAFD691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A6949-5E0B-4672-B310-E2831EA4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32111-E441-4363-9212-AE912B63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A145-06A1-4DC6-B13F-5606E155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5A833-217C-42ED-9A18-A0B42C7E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793E3-30B5-4D11-A817-6772785A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0033E-613B-41FF-A6B5-7D7C2FA4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85F2A-9CCB-475D-AADB-557B9EC5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BB561-1823-41D9-B570-A093241C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96ADF-55CC-4253-BB55-86063F5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770-CB66-4304-AC1F-5E541ACB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677A6-8484-4591-B0E5-AEE9C76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BEAE3-461C-4E0F-8836-7491D1D1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F64FC-4AE2-448D-9A79-C3DCC69A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8BE29-358B-4729-BD4C-3F1780A9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3C245-2A5F-43E1-9589-5CCD2CE1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21099-E603-45F7-8D50-F13B5867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27252-F174-4FB8-A799-F81B7016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70EE6-F1AE-4729-BCE8-C63BF38C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F889E-1A73-4464-8398-51888B37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70495-16E3-47E8-AF32-30B57FC8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D6D-AAD0-41EF-9449-66CDAA65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BC47D-CE38-43B0-AF10-2C811639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637E7-3EA3-4BEB-9DFF-C3F9F46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FAF37-BF16-4508-90F6-8ECE2E3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DFAA2-4214-44D4-8D06-1346B935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ECB18-F6CC-4FAE-96DE-3D71A31F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4216A-D8DD-4084-A880-799EC7F8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FA85F-726E-4ED9-9280-E2F47C60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0F5F8-A842-4C69-88D8-452E4D3C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86A93-8BF0-4959-A1D1-8C213B60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CB92E-93E4-441D-AEB8-49223AF0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48A1-529C-4D4B-9AED-8FDC411D708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FD17-957E-4DF3-8083-A8D50811BBA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CE0A-0626-48D6-8B1B-4581A75DAC2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3399-B878-4487-A049-FBF52B32B8F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CCBB-6A83-4BB7-BF66-15D5DE92A68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BEBC-9DE5-440F-8196-EC4004F5679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3404-635F-4218-A517-5662C2869D7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8234-D618-49BC-A116-E7672EA05B8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CB05-DCE0-48D1-BAB5-38644DB3E43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FAEA-D46B-4188-A175-FB02D6205AD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8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언제 한국에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한국에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4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23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에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회사에서 일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오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y (dat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회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n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 왔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가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생일이 언제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ffix (ending) to make i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었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였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 아침에 병원에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제 소설책을 읽었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작년에 해외 여행을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숫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Fig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Sino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    2    3    4   5    6   7    8    9   10  100  1,000 10,000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 이 삼 사 오 육 칠 팔 구 십 백 천 만 억 조 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Original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나 둘 셋 넷 다섯 여섯 일곱 여덟 아홉 열 스물 서른 마흔 쉬흔 예순 일흔 여든 아흔 백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2/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6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0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오늘이 몇 월 며칠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7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2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26T01:14:27Z</dcterms:modified>
  <cp:revision>101</cp:revision>
  <dc:subject/>
  <dc:title>KOREAN LANGUAGE</dc:title>
</cp:coreProperties>
</file>